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7462-E6B4-479F-9535-2211E114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5EA0-CD24-4612-8B34-220E17D8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2084-F2B8-48BD-8498-FE61DF21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3842-1A63-4BEB-BB6A-5DF2BAB9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6635-1C2C-4B16-BA1E-FA79F005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F2B9-EC2F-4B27-9B40-A164D324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CE9F-B438-4F21-99E8-8BB62548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EA9E-9A60-447F-B723-8E027ED7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1534-19BA-4DE5-85F7-C44D1BF7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661B-38DB-4B41-9A49-CE842B7A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EEA3-7209-4D01-9077-9FB294C5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6BB7-67B1-4843-A732-E6B31814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8C5E-06CE-44DF-BD8C-47CD05AC3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4 ASA/A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39800" y="609480"/>
            <a:ext cx="7664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2103480"/>
            <a:ext cx="7772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81160" y="609480"/>
            <a:ext cx="6781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1558800"/>
            <a:ext cx="777240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2138400"/>
            <a:ext cx="777240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2022480"/>
            <a:ext cx="77724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919160"/>
            <a:ext cx="777240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2505240"/>
            <a:ext cx="77724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804960"/>
            <a:ext cx="777240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773280"/>
            <a:ext cx="75438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136600"/>
            <a:ext cx="777240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935000"/>
            <a:ext cx="777240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2440080"/>
            <a:ext cx="777240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2135160"/>
            <a:ext cx="77724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025640"/>
            <a:ext cx="44956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9040" y="609480"/>
            <a:ext cx="41115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2603520"/>
            <a:ext cx="777240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1316160"/>
            <a:ext cx="77724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312920"/>
            <a:ext cx="777240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1601640"/>
            <a:ext cx="77724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33440" y="609480"/>
            <a:ext cx="6477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399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09800" y="609480"/>
            <a:ext cx="7124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631800"/>
            <a:ext cx="777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22:12:25Z</dcterms:created>
  <dc:creator>PSD</dc:creator>
  <dc:description/>
  <dc:language>en-US</dc:language>
  <cp:lastModifiedBy>Parkland High School</cp:lastModifiedBy>
  <dcterms:modified xsi:type="dcterms:W3CDTF">2010-12-17T15:27:12Z</dcterms:modified>
  <cp:revision>5</cp:revision>
  <dc:subject/>
  <dc:title>4.4 ASA/AAS</dc:title>
</cp:coreProperties>
</file>